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7620-24BA-45DD-A7FF-CE3B9D3E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D3A-AD8D-43A3-A9AA-285E9197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100-3789-41C8-8093-41CFF12D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C90-B70F-4FED-B3EF-049FEF62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A397-B838-4055-A764-56E578EE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641-FDC0-4EA3-98F5-5AB36F23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0A7-6B3F-48BC-AFCF-147F355D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B87-98CF-43C7-9135-992D042D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612-3150-4190-9F9D-27D16480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F60A-69E2-4270-98DB-2F7D533E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3EE-0691-43BC-935C-8E0ED930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F38-6D8B-4F02-8D3B-6A9691C2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D47A-FC21-4D92-B795-B35DBC289C8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Mis documentos\Sin título-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Mis documentos\Sin título-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Mis documentos\Sin título-1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Mis documentos\Sin título-1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Mis documentos\Sin título-1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Mis documentos\Sin título-1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Mis documentos\Sin título-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Mis documentos\Sin título-2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Mis documentos\Sin título-2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Mis documentos\Sin título-2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Mis documentos\Sin título-2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4:16:42Z</dcterms:created>
  <dc:creator>Grupo Editorial</dc:creator>
  <dc:description/>
  <dc:language>en-US</dc:language>
  <cp:lastModifiedBy>TORRES</cp:lastModifiedBy>
  <dcterms:modified xsi:type="dcterms:W3CDTF">2010-12-18T22:08:16Z</dcterms:modified>
  <cp:revision>1</cp:revision>
  <dc:subject/>
  <dc:title>Sin título de diapositiva</dc:title>
</cp:coreProperties>
</file>